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2E2-1EC6-44F8-883C-8E9814D4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6F4-3440-4A1D-8DA6-FF11B3A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ABB-C3DD-4195-9369-AC4BC7BB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7A6-F3BA-40D3-9177-ECEBC103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7E5-0F8E-4713-83A9-55CC7790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419-7280-458A-B2AC-B594F95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3FD-E9BA-48F4-B293-7C29206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7F-7B1A-4AD5-AC83-6C71BE5F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A3E-BD3D-4EC9-A447-6A04FC76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170-263B-4198-96DF-85C19BD4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A70-ABB9-477A-94BD-3579331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207-06D2-49DB-B2BC-82C59EB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1EE-2D06-4F27-A05E-0A71A201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es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les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les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les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les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les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les1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les1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es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les1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les1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les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les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les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les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es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es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es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es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8:01:47Z</dcterms:created>
  <dc:creator>fabio.medessi</dc:creator>
  <dc:description/>
  <dc:language>en-US</dc:language>
  <cp:lastModifiedBy>fabio.medessi</cp:lastModifiedBy>
  <dcterms:modified xsi:type="dcterms:W3CDTF">2010-07-19T09:16:47Z</dcterms:modified>
  <cp:revision>3</cp:revision>
  <dc:subject/>
  <dc:title>Presentazione di PowerPoint</dc:title>
</cp:coreProperties>
</file>